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34.png" ContentType="image/png"/>
  <Override PartName="/ppt/media/image36.png" ContentType="image/png"/>
  <Override PartName="/ppt/media/image12.png" ContentType="image/png"/>
  <Override PartName="/ppt/media/image49.png" ContentType="image/png"/>
  <Override PartName="/ppt/media/image37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532C9-4C8D-4B8E-A584-FF21870DB7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6AE35-3911-4C68-9322-C30C4563E0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D1E0B-B8F5-4BE6-88FB-F7935B5EFA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06B42-46B2-4CC5-B35A-04D33E2BCD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D2C89-8251-41BE-8328-596EB847AB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51053-1846-4986-ABC2-9AD7B83C5E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93C76-B7C6-4D24-B44F-CA7D0B78AC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233F4-13B3-4ADC-BB93-DF4ABA2453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8BA80-1B81-4BB1-8B74-46A201DE30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8D37F-9BFC-482C-AC3F-4903C3F579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EDE65-0EDD-4AE3-A7F5-C762CAAEE1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3BF58-3E20-427A-9630-17ACD3AFC9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0AA13-E0C4-4E4B-A90D-435854C0AA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7483B-897B-4270-9833-4F734554A5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7D47D-0C20-4654-B305-9A9AC416D6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8880A-5C7A-4D7A-B20B-22CAE6D693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EE497-3BA4-47D5-9995-1DC9062701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B05C2-C8A3-4DC2-8FA1-F18BF9E24F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87117-CEFA-4C86-948E-223EDDD15E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F4B9C-9C71-40F9-98DA-18200BC2CD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01022-E25B-41DB-893D-999F4D998E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96D53-EAA2-455C-B914-45800D7CFF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AA619-D43A-4C89-A18B-DAAE3F2A38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B7B22-01E3-498A-B71E-D031B59513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2F313-2AAE-459F-A10B-A530976A5A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3E2B6-C9CE-42AF-B537-E0DE55DF1F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95AA6-C36B-4451-8DB0-5BFE60267C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20680"/>
            <a:ext cx="822636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ocs.moodle.org/en/Main_Page" TargetMode="External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hyperlink" Target="http://moodle.org/course/category.php?id=1" TargetMode="External"/><Relationship Id="rId4" Type="http://schemas.openxmlformats.org/officeDocument/2006/relationships/hyperlink" Target="http://moodle.org/course/category.php?id=1" TargetMode="External"/><Relationship Id="rId5" Type="http://schemas.openxmlformats.org/officeDocument/2006/relationships/hyperlink" Target="http://moodle.org/course/category.php?id=1" TargetMode="External"/><Relationship Id="rId6" Type="http://schemas.openxmlformats.org/officeDocument/2006/relationships/hyperlink" Target="http://moodle.org/course/category.php?id=1" TargetMode="External"/><Relationship Id="rId7" Type="http://schemas.openxmlformats.org/officeDocument/2006/relationships/hyperlink" Target="http://moodle.org/course/category.php?id=1" TargetMode="External"/><Relationship Id="rId8" Type="http://schemas.openxmlformats.org/officeDocument/2006/relationships/hyperlink" Target="http://moodle.org/course/category.php?id=1" TargetMode="External"/><Relationship Id="rId9" Type="http://schemas.openxmlformats.org/officeDocument/2006/relationships/hyperlink" Target="http://moodle.org/course/category.php?id=2" TargetMode="External"/><Relationship Id="rId10" Type="http://schemas.openxmlformats.org/officeDocument/2006/relationships/hyperlink" Target="http://moodle.org/course/category.php?id=2" TargetMode="External"/><Relationship Id="rId11" Type="http://schemas.openxmlformats.org/officeDocument/2006/relationships/hyperlink" Target="http://moodle.org/course/category.php?id=2" TargetMode="External"/><Relationship Id="rId12" Type="http://schemas.openxmlformats.org/officeDocument/2006/relationships/hyperlink" Target="http://moodle.org/course/category.php?id=2" TargetMode="External"/><Relationship Id="rId13" Type="http://schemas.openxmlformats.org/officeDocument/2006/relationships/hyperlink" Target="http://moodle.org/course/category.php?id=2" TargetMode="External"/><Relationship Id="rId14" Type="http://schemas.openxmlformats.org/officeDocument/2006/relationships/hyperlink" Target="http://moodle.org/course/category.php?id=2" TargetMode="External"/><Relationship Id="rId15" Type="http://schemas.openxmlformats.org/officeDocument/2006/relationships/hyperlink" Target="http://moodle.org/course/category.php?id=2" TargetMode="External"/><Relationship Id="rId16" Type="http://schemas.openxmlformats.org/officeDocument/2006/relationships/hyperlink" Target="http://moodle.org/course/category.php?id=2" TargetMode="External"/><Relationship Id="rId17" Type="http://schemas.openxmlformats.org/officeDocument/2006/relationships/hyperlink" Target="http://moodle.org/course/category.php?id=2" TargetMode="External"/><Relationship Id="rId18" Type="http://schemas.openxmlformats.org/officeDocument/2006/relationships/hyperlink" Target="http://moodle.org/course/category.php?id=2" TargetMode="External"/><Relationship Id="rId19" Type="http://schemas.openxmlformats.org/officeDocument/2006/relationships/hyperlink" Target="http://moodle.org/course/view.php?id=35" TargetMode="External"/><Relationship Id="rId20" Type="http://schemas.openxmlformats.org/officeDocument/2006/relationships/hyperlink" Target="http://moodle.org/course/view.php?id=47" TargetMode="External"/><Relationship Id="rId21" Type="http://schemas.openxmlformats.org/officeDocument/2006/relationships/hyperlink" Target="http://docs.moodle.org/en/Main_Page" TargetMode="External"/><Relationship Id="rId22" Type="http://schemas.openxmlformats.org/officeDocument/2006/relationships/hyperlink" Target="http://moodle.com/" TargetMode="External"/><Relationship Id="rId23" Type="http://schemas.openxmlformats.org/officeDocument/2006/relationships/hyperlink" Target="http://moodle.com/" TargetMode="External"/><Relationship Id="rId24" Type="http://schemas.openxmlformats.org/officeDocument/2006/relationships/slideLayout" Target="../slideLayouts/slideLayout2.xml"/><Relationship Id="rId2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44600" y="1577880"/>
            <a:ext cx="6829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 você é pedagogo ou treinador de negócios provavelmente já ouviu falar sobre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97160" y="2908440"/>
            <a:ext cx="2425680" cy="8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ducação do século XXI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91200" y="4108320"/>
            <a:ext cx="3225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ftware Social e 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3040" y="3324240"/>
            <a:ext cx="2289240" cy="17049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69000" y="4495680"/>
            <a:ext cx="2197080" cy="14796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797440" y="3641760"/>
            <a:ext cx="2514600" cy="121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440000" y="2340000"/>
            <a:ext cx="700884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estionári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questionários incluindo perguntas de verdadeiro ou falso, múltipla escolha, respostas curtas, associação, perguntas aleatórias, numéricas, inseridas no texto e todas elas podem conter gráf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44600" y="1628640"/>
            <a:ext cx="73328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62560" y="5353200"/>
            <a:ext cx="2678400" cy="9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professores podem definir com precisão os exames do curso, e importar questões de  formatos mais populares como IMS QTI, Blackboard ou WebCT. O Moodle permite ainda  integrar áudio nos seus questionár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366920" y="3638520"/>
            <a:ext cx="2933640" cy="20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367080" y="4572000"/>
            <a:ext cx="2816280" cy="188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44600" y="1630440"/>
            <a:ext cx="72565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racterísticas de Gerenciamento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3040" y="3822840"/>
            <a:ext cx="448164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quér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e módulo ajuda a criar cursos mais eficazes oferecendo uma variedade de inquéritos (COLLES, ATTL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kshop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e para coordenação de trabalhos de grupo. Permite aos participantes diversas formas para avaliar os projetos dos outros, assim como projetos-protótipo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No final o professor avalia os trabalh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5920" y="2330280"/>
            <a:ext cx="4703760" cy="14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urs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e  para incluir conteúdos em curso.  Podem ser: texto sem formato, arquivos, Links, Wiki ou HTML 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em os editores incorporados) ou ainda uma referencia bibliográfic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60960" y="2173320"/>
            <a:ext cx="2651400" cy="1839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948280" y="4189320"/>
            <a:ext cx="2943360" cy="185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5962680" y="6140520"/>
            <a:ext cx="2987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permite adicionar expressões matemáticas em atividade, usando o editor incorporado de 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44600" y="2386080"/>
            <a:ext cx="5265720" cy="33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iar os conteúdos de ensino é apenas uma parte do que deve fazer  um sistema de gerenciamento de cursos (CMS).  Um CMS deve gerenciar os alunos de vários modos. A gerenciamento dos alunos inclu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r acesso a informação sobre os alunos do cu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apacidade para realizar grupos de al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plicar diversas escalas nas classificações dos al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onitorização e registo dos acessos dos utiliz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Symbol" charset="2"/>
              <a:buChar char="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Upload de arquivos externos para utilizar no cu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 Muito M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796080" y="2446200"/>
            <a:ext cx="1658880" cy="11145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0" name=""/>
          <p:cNvSpPr/>
          <p:nvPr/>
        </p:nvSpPr>
        <p:spPr>
          <a:xfrm>
            <a:off x="1336680" y="1563840"/>
            <a:ext cx="6788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racterísticas do gerenciamento do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4600" y="1812960"/>
            <a:ext cx="7248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Particip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44600" y="2384280"/>
            <a:ext cx="524520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demos ver a atividade de todos os participantes do curso.  Os alunos criam um perfil pessoal que pode incluir uma imagem, o que ajuda a estabelecer laços sociais na comunidade do cu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026120" y="2449440"/>
            <a:ext cx="1257480" cy="77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3516480"/>
            <a:ext cx="3719520" cy="2887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5245200" y="5749920"/>
            <a:ext cx="361620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alunos preenchem uma página pessoal com o seu perfil. A inclusão de uma imagem e dos detalhes do seu perfil criam laços socia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44600" y="1811160"/>
            <a:ext cx="678816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Grupos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44600" y="2376360"/>
            <a:ext cx="50706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vidir os alunos em grupos é uma atividade normal em educação.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ermite que o professor do curso crie grupos facilmente, e determine como os membros se relacionam com os outros grupos e nas diferentes ativ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44600" y="6137280"/>
            <a:ext cx="3797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riar nomes de grupo distintos é fácil.  Com um clique atribuem-se alunos e professores a um grup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44600" y="3683160"/>
            <a:ext cx="37926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026120" y="2449440"/>
            <a:ext cx="1257480" cy="77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44600" y="1852560"/>
            <a:ext cx="67644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Calendári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11120" y="2413080"/>
            <a:ext cx="58881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nter um calendário de eventos é importante para o aluno e o professor do curso.  Os eventos podem-se criar em diversas categorias, incluin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481880" y="2459160"/>
            <a:ext cx="1111320" cy="2179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1379520" y="3024360"/>
            <a:ext cx="601992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globais aparecem em todos os 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do curso são afixados pelo profess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de um grupo apenas são visíveis ao grup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do usuário são afixados pelo utilizador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(Por ex.: datas assinaladas, pessoais,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próximos aparecem na página principal do curso, avisando o aluno.  Os alertas são de cores por catego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44600" y="1809720"/>
            <a:ext cx="7616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Administraçã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44600" y="2374920"/>
            <a:ext cx="576756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painel de controle de administração à uma distancia de um clique, que contém todas as funções importantes do gerenciamento do curso.  Os professores e os estudantes podem ser inscritos ou eliminados manualmente.  As opções para efetuar cópias de segurança e  restauração de um curso obtém-se facil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28840" y="5634000"/>
            <a:ext cx="49024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recuperação de um curso existente consegue-se com apenas um cliqu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torna fácil reutilizar os cursos e compartilhá-las com outros professores. A cópia de segurança pode incluir ou excluir os arquivos dos alunos e dados do cur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71600" y="3691080"/>
            <a:ext cx="1579680" cy="2608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25960" y="4494240"/>
            <a:ext cx="3695400" cy="954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439040" y="2394000"/>
            <a:ext cx="1144440" cy="197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44600" y="1811160"/>
            <a:ext cx="74692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Escal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44600" y="2389320"/>
            <a:ext cx="56516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professores podem definir escalas que se utilizarão para classificar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fórun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trabalho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diário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As escalas normais podem atribuir valores de 1 a 100% em cada atividade (ou nenhuma classificação), ou indicar se o aluno demonstra uma das três características na ativida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70280" y="5742000"/>
            <a:ext cx="344196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Verdana"/>
              </a:rPr>
              <a:t>As escalas permitem ao professor fazer qualificações específicas para cada conteúdo, criar facilmente vários tipos de escalas, e conectá-las às diferentes atividades adicionadas ao cur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44600" y="4584600"/>
            <a:ext cx="3209760" cy="1903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1757520" y="3344760"/>
            <a:ext cx="4005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stra um conhecimento CONECTAD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stra um conhecimento SEPARAD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gual separado que conectad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5968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44600" y="1800360"/>
            <a:ext cx="7502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Not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44600" y="2395440"/>
            <a:ext cx="56102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opção de classificações oferece uma visualização de todas as classificações dos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fóruns, trabalhos, diários, questionários, lições e oficina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A escala de classificações aplicada numa atividade do curso mostra-se, junto com um total acumulado, numa única pág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00240" y="6164280"/>
            <a:ext cx="57830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As classificações podem-se baixadas em formato de Excel ou em texto para incluir num boletim eletrônico exter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44600" y="3830760"/>
            <a:ext cx="5506920" cy="220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15968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44600" y="1643040"/>
            <a:ext cx="7709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44600" y="2392200"/>
            <a:ext cx="57420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s janelas de um trabalho ou diário aparecem os arquivos enviados, as classificações e os comentários de todos os aluno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uma única pági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84640" y="3489480"/>
            <a:ext cx="28908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gerenciamento dos arquivos enviados pelos alunos nos seus trabalhos e diários do curso faz-se a partir de uma janela central.  Isto reduz o tempo necessário para atender aos trabalhos de todos os alu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44600" y="3375000"/>
            <a:ext cx="2692440" cy="2639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090960" y="4562640"/>
            <a:ext cx="3147840" cy="1830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19604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87560" y="1450800"/>
            <a:ext cx="730080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9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alvez seja o momento certo de fazer algo na sua instituição educ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 que você pretende do seu sistema de ensino on-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8920" y="3009960"/>
            <a:ext cx="6648120" cy="22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ácil criação de cursos a partir de recursos existent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 os conteúdos do cursos sejam reutilizados com diferentes alunos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volvimento dos alun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crição e autenticação dos alunos, que são simples contudo segu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m sistema intuitivo para professores e alunos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ma comunidade de apoio ativa para ajudar resolver problemas e gerar idéias nov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essibilidade e qualidad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50120" y="4952880"/>
            <a:ext cx="1847880" cy="124308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44600" y="1641600"/>
            <a:ext cx="77551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Relató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44600" y="2374920"/>
            <a:ext cx="5316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nitore quando um recurso foi ativado ou acessado, por um determinado aluno.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ia um registro detalhado para o monitor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44600" y="3070080"/>
            <a:ext cx="5229360" cy="487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6624720" y="5641920"/>
            <a:ext cx="23000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registos estabelecem claramente onde está um aluno do curso.  Pode localizar facilmente a data e o acesso específico de uma atividade do curso, um aluno, ou um módu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344600" y="3989520"/>
            <a:ext cx="5195880" cy="2344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87240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44600" y="1627200"/>
            <a:ext cx="67881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i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Arqu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4600" y="2370240"/>
            <a:ext cx="52862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dos os recursos do curso estão localizados dentro da área dos arquivos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Os recursos estão disponíveis ao usar o editor de HTML, permitindo inclui-los facilmente no conteúdo de uma ativ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32360" y="5724360"/>
            <a:ext cx="33130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gerenciamento dos arquivos assemelha-se ao do seu computador, tornando fácil adicionar, mover, descompactar e excluir recurs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68360" y="3384720"/>
            <a:ext cx="436104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7240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44600" y="1627200"/>
            <a:ext cx="67881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Aj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44600" y="2185920"/>
            <a:ext cx="62150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m site do Moodle de suporte e ajuda para professores e administradores, que necessitarem de ajuda ao gerenciamento do cu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odle Docs: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docs.moodle.org/en/Main_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49320" y="5843520"/>
            <a:ext cx="5280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Docs tem um manual do professor que proporciona instruções passo a passo em todos os aspectos e, claro, sobre o gerenciamento do cur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376360" y="3125880"/>
            <a:ext cx="4500720" cy="25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344600" y="1628640"/>
            <a:ext cx="5454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rendizagem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Lo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0000" y="2347920"/>
            <a:ext cx="53607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alunos acham fácil navegar nas páginas dos cursos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m o seu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browse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pois um histórico d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stá sempre presente.  O inicio do login ocorre numa janela intuitiva.  O registo do aluno pode ser efetuado pelo próprio aluno ou pelo administra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81720" y="5627520"/>
            <a:ext cx="3292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tem o seu próprio sistema de autenticação, no entanto integra também uma base de dados, POP3, IMAP, LDAP o NNTP externo, permitindo um vasto domínio da liga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962680" y="3689280"/>
            <a:ext cx="2341440" cy="29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5526000" y="4052880"/>
            <a:ext cx="3294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barra de navegação proporciona links para a  página principal do curso e as suas a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904080" y="2076480"/>
            <a:ext cx="1520640" cy="12222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344600" y="3665520"/>
            <a:ext cx="4065480" cy="2649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44600" y="1569960"/>
            <a:ext cx="6913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iência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Senhas de inscr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44600" y="2371680"/>
            <a:ext cx="547056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professores podem exigir uma senha  para permitir a inscrição em um curso.  Assim consegue-se um processo de inscrição individualiz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cursos que necessitem uma senha para a inscrição indicam-no na descrição das categorias dos cur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44600" y="5891040"/>
            <a:ext cx="46688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Na categoria da disciplina pode ver-se a descrição de cada curso.  Os símbolos na página de descrição indicam quando um curso requer uma senha de inscrição e se permite a entrada a convid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16880" y="3660840"/>
            <a:ext cx="22334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alunos vem os seus cursos na página principal do site depois de efetuado o inicio de lo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44600" y="3835440"/>
            <a:ext cx="4722840" cy="19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205760" y="2373480"/>
            <a:ext cx="1181160" cy="1220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44600" y="1574640"/>
            <a:ext cx="69166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prendizagem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24/7/365 Semp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3360" y="3521160"/>
            <a:ext cx="22842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Pode-se selecionar um dos 34 idiomas disponíveis para o lo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913440" y="2467080"/>
            <a:ext cx="1390680" cy="1000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44600" y="2414520"/>
            <a:ext cx="513540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alunos podem logar-se a qualquer momento, de onde quiserem para usar os recursos do curso, e podem especificar o fuso o horário e o idioma que desejem utilizar. 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spõe de interfaces para 34 idio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44600" y="1576440"/>
            <a:ext cx="74437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ência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Notificação via 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44600" y="5834160"/>
            <a:ext cx="3944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e-mail é enviado, em formato HTML, a cada aluno inscrito nos fóru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44600" y="2417760"/>
            <a:ext cx="638496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 os alunos se “inscreverem” nos fóruns, as novas mensagens serão enviados via e-mail.  Além disso, os professores podem escolher a notificação via e-mail, também, para diálogos priv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44600" y="3287880"/>
            <a:ext cx="3992400" cy="24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44600" y="2411280"/>
            <a:ext cx="7078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s de 36148 organizações em 200 países têm sites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m Dezembro de 2007 (http://moodle.org/sites).  Este número está crescendo a um ritmo de 10% por mês enquanto os professores aprendem a utilidade de implementar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é a plataforma de ensino virtual ideal pa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44600" y="1663560"/>
            <a:ext cx="5348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Quem usa o Mood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45160" y="4102200"/>
            <a:ext cx="310500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 minha experiência na primeira turma foi um enorme êxito, pelo comportamento do programa e pela quantidade e qualidade da participação.  Foi fabuloso trabalhar com o </a:t>
            </a:r>
            <a:r>
              <a:rPr b="0" i="1" lang="en-GB" sz="1200" spc="-1" strike="noStrike">
                <a:solidFill>
                  <a:srgbClr val="ffffff"/>
                </a:solidFill>
                <a:latin typeface="Times New Roman"/>
              </a:rPr>
              <a:t>Mood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.  Não se parece em nada com outras plataformas monótonas  Blackboard e WebCT."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- Paula Edmiston, Form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93720" y="3333600"/>
            <a:ext cx="55310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co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itu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ntros de formação profis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gó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adem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spit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bliote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gencias de empr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52520" y="1766880"/>
            <a:ext cx="7483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Quem ira ajudá-lo a utilizar o Moodle?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52520" y="2436840"/>
            <a:ext cx="72550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151"/>
              </a:spcBef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ntenas de utilizadores conhecedores do Open Source uniram-se como programadores do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numa comunidade de aprendizagem. Contacte-o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428840" y="2976480"/>
            <a:ext cx="6746760" cy="36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352520" y="1636560"/>
            <a:ext cx="7483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orque não experimentar o Moodle ago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52520" y="2406600"/>
            <a:ext cx="598176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151"/>
              </a:spcBef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 a sua instituição está interessada ou necessita ajuda para que os seus alunos aprendam on-line, você tem agora a oportunidade. Estes sites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stão abertos para os explorar como aluno, ou como profes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14360" y="5145120"/>
            <a:ext cx="2536920" cy="509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377120" y="2368440"/>
            <a:ext cx="1461960" cy="9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"/>
          <p:cNvSpPr/>
          <p:nvPr/>
        </p:nvSpPr>
        <p:spPr>
          <a:xfrm>
            <a:off x="1297080" y="3367080"/>
            <a:ext cx="727380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tilizando o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moodle.org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urse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category.php?id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para o ensino de línguas:</a:t>
            </a:r>
            <a:r>
              <a:rPr b="0" lang="en-GB" sz="1400" spc="-1" strike="noStrike">
                <a:solidFill>
                  <a:srgbClr val="008080"/>
                </a:solidFill>
                <a:latin typeface="Arial"/>
              </a:rPr>
              <a:t> 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moodle.org/course/category.php?id=1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que é o Software Open Source 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moodle.org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course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/category.php?id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mo para explorar como professor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moodle.org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course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/category.php?id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unidade Brasileira do Moodle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http://moodle.org/course/view.php?id=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uia de Funcionalidade do Moodle: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http://moodle.org/course/view.php?id=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odle Docs</a:t>
            </a:r>
            <a:r>
              <a:rPr b="0" lang="en-GB" sz="1400" spc="-1" strike="noStrike">
                <a:solidFill>
                  <a:srgbClr val="008080"/>
                </a:solidFill>
                <a:latin typeface="Arial"/>
              </a:rPr>
              <a:t>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http://docs.moodle.org/en/Main_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oio da equipe de desenvolvimento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2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3"/>
              </a:rPr>
              <a:t>moodl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88600" y="1459080"/>
            <a:ext cx="46990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trodução ao Moodl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8280" y="2203560"/>
            <a:ext cx="7012080" cy="13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é uma alternativa às soluções comerciais de ensino on-line, e distribui-se gratuitamente sob licença Open Source. Uma organização tem acesso completo ao código de fonte e pode fazer mudanças se necessário. O contexto de ensino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stá baseado nos princípios pedagógicos construtivistas, com um desenho modular que torna fácil acrescentar conteúdos que motivem o estud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19640" y="6237360"/>
            <a:ext cx="4762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300" spc="-1" strike="noStrike">
                <a:solidFill>
                  <a:srgbClr val="000000"/>
                </a:solidFill>
                <a:latin typeface="Arial"/>
              </a:rPr>
              <a:t>O Moodle tem uma interface intuitiva para a navegação que facilita o gerenciamento do curs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2440" y="4794120"/>
            <a:ext cx="2664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dular Object-Oriented Dynamic Learn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32000" y="5280120"/>
            <a:ext cx="1842840" cy="460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59280" y="3600360"/>
            <a:ext cx="377820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44600" y="1628640"/>
            <a:ext cx="7338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rquitetura do Moo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44600" y="2352600"/>
            <a:ext cx="549576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1" lang="en-GB" sz="1600" spc="-1" strike="noStrike">
                <a:solidFill>
                  <a:srgbClr val="ff9933"/>
                </a:solidFill>
                <a:latin typeface="Arial"/>
              </a:rPr>
              <a:t> atividad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ão o coração do sistema de gerenciamento de cursos.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foi projetado por um pedagogo e cientista da computação, baseando-se nos princípios do “construtivismo social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Construtivismo afirma que o ensino é particulamente eficaz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quando construímos algo para outros experimentarem. .Isto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de ser qualquer coisa uma frase pronunciada ou uma mensagem na Internet, ou elementos mais complexos como uma pintura, uma casa ou um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conceito de construtivismo social amplia as idéias, para um grupo social que constrói o seu ensino uns com os outros, criando em colaboração uma cultura compartilhada de conteúdos e significados.  Quando nos submergimos numa cultura como esta, vamos estár aprendendo a todo tempo como ser uma parte dessa cultura , em muitos níveis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6560" y="3205080"/>
            <a:ext cx="178596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rtin Dougia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riador e diretor de desenvolvim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188120" y="1959120"/>
            <a:ext cx="1050840" cy="10731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08240" y="1630440"/>
            <a:ext cx="73389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romover um ensino 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44600" y="2282760"/>
            <a:ext cx="546732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perspectiva construtivista vê o aluno implicado ativamente no seu ensino e empenhado para que lhe dê significado, e este tipo de ensino procura que o aluno possa analisar, investigar, colaborar, compartilhar, construir e gerar baseando-se no que eles já sabem. Alguns dos princípios do construtivismo, em termos pedagógicos incluem: 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5600" y="3664080"/>
            <a:ext cx="665928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studantes vão as aulas com uma opinião estabelecida, formada   por anos de experiência e de aprendizagens anteri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a que os estudantes alterem o seu ponto de vista do trabal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studantes aprendem sozinhos e com o profes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studantes aprendem melhor na pr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ir e criar as oportunidades para que todos possam expressar-se e  promover a construção de novas idé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66080" y="2136600"/>
            <a:ext cx="1334880" cy="1335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84360" y="4365720"/>
            <a:ext cx="3152880" cy="2295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44600" y="1638360"/>
            <a:ext cx="4883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ici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13280" y="5472000"/>
            <a:ext cx="28274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Quando o modo de edição está ativado, o criador do curso pode adicionar atividades a partir de uma lista  com os módulos disponíve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9600" y="2940120"/>
            <a:ext cx="493884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. Os privilégios da criação de um curso são dados ao professor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 Selecione um dos três formatos do curso: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ma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man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ci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. Clique em “Ativar modo edição” no curso vaz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. Adicione recursos ou atividades ao curso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97160" y="2224080"/>
            <a:ext cx="528300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em um design modular que  facilita o processo de adicionar as atividades que formam um curso é si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33400" y="6300720"/>
            <a:ext cx="966960" cy="176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719760" y="2268360"/>
            <a:ext cx="188460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44600" y="1817640"/>
            <a:ext cx="71168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Módulos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74840" y="2371680"/>
            <a:ext cx="5589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ba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ribui tarefas on-line ou off-line;  Os alunos podem entregar as suas tarefas em arquivo de qualquer formato (ex; MS Office, PDF, a/v etc...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29160" y="5375160"/>
            <a:ext cx="33908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ada módulo dá ajudas sobre as suas caracterí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605560" y="4211640"/>
            <a:ext cx="3047760" cy="1108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1270080" y="4019400"/>
            <a:ext cx="405108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ferend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professores criam uma pergunta e um numero de opções para os alunos.  Utilize este módulo para fazer votações rápidas sobre um te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álog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comunicação privada entre o professor e um aluno ou entre os alu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033" t="0" r="1033" b="750"/>
          <a:stretch/>
        </p:blipFill>
        <p:spPr>
          <a:xfrm>
            <a:off x="7105680" y="2340000"/>
            <a:ext cx="1353960" cy="1730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79440" y="3419640"/>
            <a:ext cx="5308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t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a comunicação em tempo real com os al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672160" y="5651640"/>
            <a:ext cx="2787480" cy="439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5021280" y="6173640"/>
            <a:ext cx="3978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Nas atividades você pode exigir que o aluno para entregar o projeto faça uplo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056360" y="2160720"/>
            <a:ext cx="180036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32000" y="1814400"/>
            <a:ext cx="6840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Módulos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4840" y="2371680"/>
            <a:ext cx="6770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ó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fóruns permitem diálogos do grupo sobre um determinado tema.  A participação em fóruns pode ser uma parte integral do ensino, ajuda os alunos a esclarecer e desenvolver a sua compreensão de um te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84200" y="3735360"/>
            <a:ext cx="6280200" cy="21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390680" y="5999040"/>
            <a:ext cx="6534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alunos podem classificar os comentários inseridos no fórum, baseando-se nas escalas determinadas pelo criador do cu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66920" y="1625760"/>
            <a:ext cx="7288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15880" y="3600360"/>
            <a:ext cx="4343400" cy="27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ssári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ie um glossário dos termos mais usados em um curso.  Existem várias opções de representação, incluindo em lista, enciclopédia, FAQ, dicionário e out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56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ári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aos alunos refletirem e discutirem sobre um tema.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ótul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iciona descrições com imagens na página principal do curso.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84840" y="6157800"/>
            <a:ext cx="3014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termos do glossário aparecem em todos os recursos do curso.  O Moodle tem o seu próprio recurso de bus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79960" y="3900600"/>
            <a:ext cx="2590920" cy="2187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1333440" y="2448000"/>
            <a:ext cx="729000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çã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criar e gerenciar um conjunto de "páginas ligadas".  Cada página pode terminar com um pergunta. O aluno escolhe uma resposta, a resposta do aluno, faz com que ele progrida ou regrida ou permaneça no mesmo lugar.  No final existe uma qualific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Moodle - Apresentação</dc:title>
</cp:coreProperties>
</file>