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626A0-9717-486F-863C-15CF192C9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E7DF9-3BD6-494F-8DCD-1B78A5DA9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A30A9-2474-4DC7-B05E-F00446A17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FB685-FACE-4E17-9DBC-2360293CF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8A330-8508-40D1-BDFB-69F7DB2E5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DBFEC-E8E1-4017-8715-6AEF15ED4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F707C-9988-4902-90D8-B97B69DEB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52802-5980-4389-AA11-EDD351CB7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13052-591F-4546-8940-5238E2E6B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72F95-6D82-41BB-B6BD-EE7365696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5E143-1BE8-4E95-B370-4D056CFFC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3C621-0881-4C47-A29D-071DE65E9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195D4-CF19-457B-95ED-E7F011351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C62CF-D206-401E-ADA0-5824DFA25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22880-0E7C-4950-91CA-38D4C2D8E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4B8E0-2A25-4A4B-85B1-2E04C1807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AECE3-B2B3-4D31-8051-BA2799CE1B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1A7CD-721B-40C9-83E2-0C6E2C972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4732D-884A-4F73-9188-C134EBC42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3BC4D-73B9-43B0-8346-4331BBE0A1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8AD7E-0C5E-43AF-B428-03F6DB33B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877D6-2D67-44A1-BF2D-1C35A1BD1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99682-4F8A-482B-B081-94A36D681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7D580-5B94-45DF-A789-5330E3DE7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2EBA-73D3-432D-BA0B-5BDC66E9B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C4255-6D3F-4EC6-96AE-230ECE197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DF4E0-D79A-40EB-B104-4D537EDBE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2068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cs.moodle.org/en/Main_Pag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hyperlink" Target="http://moodle.org/course/category.php?id=1" TargetMode="External"/><Relationship Id="rId4" Type="http://schemas.openxmlformats.org/officeDocument/2006/relationships/hyperlink" Target="http://moodle.org/course/category.php?id=1" TargetMode="External"/><Relationship Id="rId5" Type="http://schemas.openxmlformats.org/officeDocument/2006/relationships/hyperlink" Target="http://moodle.org/course/category.php?id=1" TargetMode="External"/><Relationship Id="rId6" Type="http://schemas.openxmlformats.org/officeDocument/2006/relationships/hyperlink" Target="http://moodle.org/course/category.php?id=1" TargetMode="External"/><Relationship Id="rId7" Type="http://schemas.openxmlformats.org/officeDocument/2006/relationships/hyperlink" Target="http://moodle.org/course/category.php?id=1" TargetMode="External"/><Relationship Id="rId8" Type="http://schemas.openxmlformats.org/officeDocument/2006/relationships/hyperlink" Target="http://moodle.org/course/category.php?id=1" TargetMode="External"/><Relationship Id="rId9" Type="http://schemas.openxmlformats.org/officeDocument/2006/relationships/hyperlink" Target="http://moodle.org/course/category.php?id=2" TargetMode="External"/><Relationship Id="rId10" Type="http://schemas.openxmlformats.org/officeDocument/2006/relationships/hyperlink" Target="http://moodle.org/course/category.php?id=2" TargetMode="External"/><Relationship Id="rId11" Type="http://schemas.openxmlformats.org/officeDocument/2006/relationships/hyperlink" Target="http://moodle.org/course/category.php?id=2" TargetMode="External"/><Relationship Id="rId12" Type="http://schemas.openxmlformats.org/officeDocument/2006/relationships/hyperlink" Target="http://moodle.org/course/category.php?id=2" TargetMode="External"/><Relationship Id="rId13" Type="http://schemas.openxmlformats.org/officeDocument/2006/relationships/hyperlink" Target="http://moodle.org/course/category.php?id=2" TargetMode="External"/><Relationship Id="rId14" Type="http://schemas.openxmlformats.org/officeDocument/2006/relationships/hyperlink" Target="http://moodle.org/course/category.php?id=2" TargetMode="External"/><Relationship Id="rId15" Type="http://schemas.openxmlformats.org/officeDocument/2006/relationships/hyperlink" Target="http://moodle.org/course/category.php?id=2" TargetMode="External"/><Relationship Id="rId16" Type="http://schemas.openxmlformats.org/officeDocument/2006/relationships/hyperlink" Target="http://moodle.org/course/category.php?id=2" TargetMode="External"/><Relationship Id="rId17" Type="http://schemas.openxmlformats.org/officeDocument/2006/relationships/hyperlink" Target="http://moodle.org/course/category.php?id=2" TargetMode="External"/><Relationship Id="rId18" Type="http://schemas.openxmlformats.org/officeDocument/2006/relationships/hyperlink" Target="http://moodle.org/course/category.php?id=2" TargetMode="External"/><Relationship Id="rId19" Type="http://schemas.openxmlformats.org/officeDocument/2006/relationships/hyperlink" Target="http://moodle.org/course/view.php?id=35" TargetMode="External"/><Relationship Id="rId20" Type="http://schemas.openxmlformats.org/officeDocument/2006/relationships/hyperlink" Target="http://moodle.org/course/view.php?id=47" TargetMode="External"/><Relationship Id="rId21" Type="http://schemas.openxmlformats.org/officeDocument/2006/relationships/hyperlink" Target="http://docs.moodle.org/en/Main_Page" TargetMode="External"/><Relationship Id="rId22" Type="http://schemas.openxmlformats.org/officeDocument/2006/relationships/hyperlink" Target="http://moodle.com/" TargetMode="External"/><Relationship Id="rId23" Type="http://schemas.openxmlformats.org/officeDocument/2006/relationships/hyperlink" Target="http://moodle.com/" TargetMode="External"/><Relationship Id="rId24" Type="http://schemas.openxmlformats.org/officeDocument/2006/relationships/slideLayout" Target="../slideLayouts/slideLayout2.xml"/><Relationship Id="rId2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44600" y="1577880"/>
            <a:ext cx="6829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você é pedagogo ou treinador de negócios provavelmente já ouviu falar sobre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2908440"/>
            <a:ext cx="2425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ucação do século XXI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91200" y="4108320"/>
            <a:ext cx="322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Social e 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3040" y="3324240"/>
            <a:ext cx="2289240" cy="1704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9000" y="4495680"/>
            <a:ext cx="21970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7440" y="3641760"/>
            <a:ext cx="25146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40000" y="2340000"/>
            <a:ext cx="700884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stion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questionários incluindo perguntas de verdadeiro ou falso, múltipla escolha, respostas curtas, associação, perguntas aleatórias, numéricas, inseridas no texto e todas elas podem conter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4600" y="1628640"/>
            <a:ext cx="7332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5353200"/>
            <a:ext cx="26784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professores podem definir com precisão os exames do curso, e importar questões de  formatos mais populares como IMS QTI, Blackboard ou WebCT. O Moodle permite ainda  integrar áudio nos seus question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66920" y="3638520"/>
            <a:ext cx="2933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67080" y="4572000"/>
            <a:ext cx="28162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4600" y="1630440"/>
            <a:ext cx="7256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3822840"/>
            <a:ext cx="4481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qué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e módulo ajuda a criar cursos mais eficazes oferecendo uma variedade de inquéritos (COLLES, ATTL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para coordenação de trabalhos de grupo. Permite aos participantes diversas formas para avaliar os projetos dos outros, assim como projetos-protótipo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No final o professor avalia os trabal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5920" y="2330280"/>
            <a:ext cx="470376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urs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 para incluir conteúdos em curso.  Podem ser: texto sem formato, arquivos, Links, Wiki ou HTML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os editores incorporados) ou ainda uma referencia bibliográfic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0960" y="2173320"/>
            <a:ext cx="265140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8280" y="4189320"/>
            <a:ext cx="2943360" cy="185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62680" y="6140520"/>
            <a:ext cx="298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permite adicionar expressões matemáticas em atividade, usando o editor incorporado de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4600" y="2386080"/>
            <a:ext cx="526572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r os conteúdos de ensino é apenas uma parte do que deve fazer  um sistema de gerenciamento de cursos (CMS).  Um CMS deve gerenciar os alunos de vários modos. A gerenciamento dos alunos inc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r acesso a informação sobre os alunos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dade para realizar grupos de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r diversas escalas nas classificações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onitorização e registo dos acessos dos utili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Symbol" charset="2"/>
              <a:buChar char="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pload de arquivos externos para utilizar no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 Muito M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796080" y="2446200"/>
            <a:ext cx="1658880" cy="11145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1336680" y="1563840"/>
            <a:ext cx="678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o gerenciamento d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4600" y="1812960"/>
            <a:ext cx="724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4600" y="2384280"/>
            <a:ext cx="52452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mos ver a atividade de todos os participantes do curso.  Os alunos criam um perfil pessoal que pode incluir uma imagem, o que ajuda a estabelecer laços sociais na comunidade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3516480"/>
            <a:ext cx="3719520" cy="288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245200" y="5749920"/>
            <a:ext cx="3616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reenchem uma página pessoal com o seu perfil. A inclusão de uma imagem e dos detalhes do seu perfil criam laços soci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4600" y="1811160"/>
            <a:ext cx="67881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Grup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4600" y="2376360"/>
            <a:ext cx="5070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ir os alunos em grupos é uma atividade normal em educaçã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mite que o professor do curso crie grupos facilmente, e determine como os membros se relacionam com os outros grupos e nas diferentes a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4600" y="6137280"/>
            <a:ext cx="379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riar nomes de grupo distintos é fácil.  Com um clique atribuem-se alunos e professores a um gru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44600" y="3683160"/>
            <a:ext cx="37926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4600" y="1852560"/>
            <a:ext cx="676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Calendá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413080"/>
            <a:ext cx="5888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ter um calendário de eventos é importante para o aluno e o professor do curso.  Os eventos podem-se criar em diversas categorias, i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81880" y="2459160"/>
            <a:ext cx="1111320" cy="217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9520" y="3024360"/>
            <a:ext cx="601992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globais aparecem em todos os 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curso são afixados pelo profess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e um grupo apenas são visíveis a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usuário são afixados pelo utilizador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(Por ex.: datas assinaladas, pessoai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próximos aparecem na página principal do curso, avisando o aluno.  Os alertas são de cores por categ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44600" y="1809720"/>
            <a:ext cx="76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dministra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4600" y="2374920"/>
            <a:ext cx="5767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ainel de controle de administração à uma distancia de um clique, que contém todas as funções importantes do gerenciamento do curso.  Os professores e os estudantes podem ser inscritos ou eliminados manualmente.  As opções para efetuar cópias de segurança e  restauração de um curso obtém-se fa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5634000"/>
            <a:ext cx="490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recuperação de um curso existente consegue-se com apenas um cl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orna fácil reutilizar os cursos e compartilhá-las com outros professores. A cópia de segurança pode incluir ou excluir os arquivos dos alunos e dados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3691080"/>
            <a:ext cx="1579680" cy="260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25960" y="4494240"/>
            <a:ext cx="369540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39040" y="2394000"/>
            <a:ext cx="1144440" cy="197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44600" y="1811160"/>
            <a:ext cx="746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Esca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4600" y="2389320"/>
            <a:ext cx="5651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definir escalas que se utilizarão para classifica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rabalh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á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s escalas normais podem atribuir valores de 1 a 100% em cada atividade (ou nenhuma classificação), ou indicar se o aluno demonstra uma das três características na ativ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70280" y="5742000"/>
            <a:ext cx="34419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Verdana"/>
              </a:rPr>
              <a:t>As escalas permitem ao professor fazer qualificações específicas para cada conteúdo, criar facilmente vários tipos de escalas, e conectá-las às diferentes atividades adicionadas a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44600" y="4584600"/>
            <a:ext cx="3209760" cy="19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57520" y="3344760"/>
            <a:ext cx="400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CONECT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SEPAR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gual separado que conect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44600" y="1800360"/>
            <a:ext cx="750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2395440"/>
            <a:ext cx="56102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opção de classificações oferece uma visualização de todas as classificações do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, trabalhos, diários, questionários, lições e oficin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 escala de classificações aplicada numa atividade do curso mostra-se, junto com um total acumulado, numa única pág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6164280"/>
            <a:ext cx="578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s classificações podem-se baixadas em formato de Excel ou em texto para incluir num boletim eletrônico ext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4600" y="3830760"/>
            <a:ext cx="550692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4600" y="1643040"/>
            <a:ext cx="7709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4600" y="2392200"/>
            <a:ext cx="574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s janelas de um trabalho ou diário aparecem os arquivos enviados, as classificações e os comentários de todos os alun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a única pág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4640" y="3489480"/>
            <a:ext cx="2890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enviados pelos alunos nos seus trabalhos e diários do curso faz-se a partir de uma janela central.  Isto reduz o tempo necessário para atender aos trabalhos de todos os alu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44600" y="3375000"/>
            <a:ext cx="2692440" cy="263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90960" y="4562640"/>
            <a:ext cx="3147840" cy="183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9604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7560" y="1450800"/>
            <a:ext cx="7300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vez seja o momento certo de fazer algo na sua instituição educ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 que você pretende do seu sistema de ensino on-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8920" y="3009960"/>
            <a:ext cx="66481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ácil criação de cursos a partir de recursos existen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 os conteúdos do cursos sejam reutilizados com diferentes aluno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volvimento dos alu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ção e autenticação dos alunos, que são simples contudo segu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stema intuitivo para professores e alun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a comunidade de apoio ativa para ajudar resolver problemas e gerar idéias nov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essibilidade e qualid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4952880"/>
            <a:ext cx="1847880" cy="1243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4600" y="1641600"/>
            <a:ext cx="7755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Rela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44600" y="2374920"/>
            <a:ext cx="5316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e quando um recurso foi ativado ou acessado, por um determinado alun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 um registro detalhado para o monitor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44600" y="3070080"/>
            <a:ext cx="5229360" cy="4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24720" y="5641920"/>
            <a:ext cx="2300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registos estabelecem claramente onde está um aluno do curso.  Pode localizar facilmente a data e o acesso específico de uma atividade do curso, um aluno, ou um mód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44600" y="3989520"/>
            <a:ext cx="519588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i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2370240"/>
            <a:ext cx="52862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os os recursos do curso estão localizados dentro da área dos arquiv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s recursos estão disponíveis ao usar o editor de HTML, permitindo inclui-los facilmente no conteúdo de uma ativ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2360" y="5724360"/>
            <a:ext cx="3313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assemelha-se ao do seu computador, tornando fácil adicionar, mover, descompactar e excluir recur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8360" y="3384720"/>
            <a:ext cx="43610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j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2185920"/>
            <a:ext cx="62150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te do Moodle de suporte e ajuda para professores e administradores, que necessitarem de ajuda ao gerenciamento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odle Docs: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ocs.moodle.org/en/Main_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9320" y="5843520"/>
            <a:ext cx="528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Docs tem um manual do professor que proporciona instruções passo a passo em todos os aspectos e, claro, sobre o gerenciamento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76360" y="3125880"/>
            <a:ext cx="4500720" cy="25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4600" y="1628640"/>
            <a:ext cx="5454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2347920"/>
            <a:ext cx="5360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acham fácil navegar nas páginas dos curs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m o se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pois um histórico d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sempre presente.  O inicio do login ocorre numa janela intuitiva.  O registo do aluno pode ser efetuado pelo próprio aluno ou pelo ad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1720" y="5627520"/>
            <a:ext cx="3292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em o seu próprio sistema de autenticação, no entanto integra também uma base de dados, POP3, IMAP, LDAP o NNTP externo, permitindo um vasto domínio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62680" y="3689280"/>
            <a:ext cx="2341440" cy="29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26000" y="4052880"/>
            <a:ext cx="329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barra de navegação proporciona links para a  página principal do curso e as suas a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4080" y="2076480"/>
            <a:ext cx="1520640" cy="122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44600" y="3665520"/>
            <a:ext cx="4065480" cy="2649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4600" y="1569960"/>
            <a:ext cx="69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Senhas de in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2371680"/>
            <a:ext cx="547056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exigir uma senha  para permitir a inscrição em um curso.  Assim consegue-se um processo de inscrição individual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cursos que necessitem uma senha para a inscrição indicam-no na descrição das categorias dos 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5891040"/>
            <a:ext cx="4668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Na categoria da disciplina pode ver-se a descrição de cada curso.  Os símbolos na página de descrição indicam quando um curso requer uma senha de inscrição e se permite a entrada a convid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16880" y="3660840"/>
            <a:ext cx="2233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vem os seus cursos na página principal do site depois de efetuado o inicio de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44600" y="3835440"/>
            <a:ext cx="4722840" cy="19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05760" y="2373480"/>
            <a:ext cx="1181160" cy="122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44600" y="1574640"/>
            <a:ext cx="6916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24/7/365 S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3360" y="3521160"/>
            <a:ext cx="22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ode-se selecionar um dos 34 idiomas disponíveis para o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3440" y="24670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44600" y="2414520"/>
            <a:ext cx="51354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podem logar-se a qualquer momento, de onde quiserem para usar os recursos do curso, e podem especificar o fuso o horário e o idioma que desejem utilizar. 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spõe de interfaces para 34 idi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44600" y="1576440"/>
            <a:ext cx="7443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ificação via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4600" y="5834160"/>
            <a:ext cx="39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e-mail é enviado, em formato HTML, a cada aluno inscrito nos fóru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44600" y="2417760"/>
            <a:ext cx="6384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os alunos se “inscreverem” nos fóruns, as novas mensagens serão enviados via e-mail.  Além disso, os professores podem escolher a notificação via e-mail, também, para diálogos pri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4600" y="3287880"/>
            <a:ext cx="399240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44600" y="2411280"/>
            <a:ext cx="707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s de 36148 organizações em 200 países têm site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m Dezembro de 2007 (http://moodle.org/sites).  Este número está crescendo a um ritmo de 10% por mês enquanto os professores aprendem a utilidade de implementar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a plataforma de ensino virtual ideal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4600" y="1663560"/>
            <a:ext cx="5348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usa o Mood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5160" y="4102200"/>
            <a:ext cx="3105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minha experiência na primeira turma foi um enorme êxito, pelo comportamento do programa e pela quantidade e qualidade da participação.  Foi fabuloso trabalhar com o </a:t>
            </a:r>
            <a:r>
              <a:rPr b="0" i="1" lang="en-GB" sz="1200" spc="-1" strike="noStrike">
                <a:solidFill>
                  <a:srgbClr val="ffffff"/>
                </a:solidFill>
                <a:latin typeface="Times New Roman"/>
              </a:rPr>
              <a:t>Mood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.  Não se parece em nada com outras plataformas monótonas  Blackboard e WebCT.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- Paula Edmiston, Form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3333600"/>
            <a:ext cx="55310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s de formação profi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ias de emp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52520" y="1766880"/>
            <a:ext cx="7483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ira ajudá-lo a utilizar o Moodle?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2436840"/>
            <a:ext cx="725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enas de utilizadores conhecedores do Open Source uniram-se como programadores d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uma comunidade de aprendizagem. Contacte-o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28840" y="2976480"/>
            <a:ext cx="67467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2520" y="1636560"/>
            <a:ext cx="7483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que não experimentar o Moodle ag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520" y="2406600"/>
            <a:ext cx="5981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a sua instituição está interessada ou necessita ajuda para que os seus alunos aprendam on-line, você tem agora a oportunidade. Estes site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ão abertos para os explorar como aluno, ou com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14360" y="5145120"/>
            <a:ext cx="253692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77120" y="2368440"/>
            <a:ext cx="146196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297080" y="3367080"/>
            <a:ext cx="72738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tegory.php?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a o ensino de línguas: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moodle.org/course/category.php?id=1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que é o Software Open Source 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o para explorar como professor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unidade Brasileira do Moodle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moodle.org/course/view.php?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a de Funcionalidade do Moodle: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moodle.org/course/view.php?id=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odle Docs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docs.moodle.org/en/Main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oio da equipe de desenvolvimento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moodl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8600" y="1459080"/>
            <a:ext cx="469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ção ao Mood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203560"/>
            <a:ext cx="701208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uma alternativa às soluções comerciais de ensino on-line, e distribui-se gratuitamente sob licença Open Source. Uma organização tem acesso completo ao código de fonte e pode fazer mudanças se necessário. O contexto de ensin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baseado nos princípios pedagógicos construtivistas, com um desenho modular que torna fácil acrescentar conteúdos que motivem o estud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6237360"/>
            <a:ext cx="476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 Moodle tem uma interface intuitiva para a navegação que facilita o gerenciamento do curs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2440" y="4794120"/>
            <a:ext cx="266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ular Object-Oriented Dynamic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5280120"/>
            <a:ext cx="1842840" cy="46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782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4600" y="1628640"/>
            <a:ext cx="7338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quitetura do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2352600"/>
            <a:ext cx="54957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 atividad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ão o coração do sistema de gerenciamento de cursos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i projetado por um pedagogo e cientista da computação, baseando-se nos princípios do “construtivismo social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strutivismo afirma que o ensino é particulamente efica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ando construímos algo para outros experimentarem. .Is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 ser qualquer coisa uma frase pronunciada ou uma mensagem na Internet, ou elementos mais complexos como uma pintura, uma casa ou u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ceito de construtivismo social amplia as idéias, para um grupo social que constrói o seu ensino uns com os outros, criando em colaboração uma cultura compartilhada de conteúdos e significados.  Quando nos submergimos numa cultura como esta, vamos estár aprendendo a todo tempo como ser uma parte dessa cultura , em muitos níve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6560" y="3205080"/>
            <a:ext cx="178596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tin Dougi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iador e diretor de desenvol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88120" y="1959120"/>
            <a:ext cx="1050840" cy="107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8240" y="1630440"/>
            <a:ext cx="7338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ver um ensino 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600" y="2282760"/>
            <a:ext cx="5467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erspectiva construtivista vê o aluno implicado ativamente no seu ensino e empenhado para que lhe dê significado, e este tipo de ensino procura que o aluno possa analisar, investigar, colaborar, compartilhar, construir e gerar baseando-se no que eles já sabem. Alguns dos princípios do construtivismo, em termos pedagógicos incluem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3664080"/>
            <a:ext cx="66592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vão as aulas com uma opinião estabelecida, formada   por anos de experiência e de aprendizagen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que os estudantes alterem o seu ponto de vista do trab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sozinhos e com 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melhor na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ir e criar as oportunidades para que todos possam expressar-se e  promover a construção de nov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6080" y="2136600"/>
            <a:ext cx="1334880" cy="133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4360" y="4365720"/>
            <a:ext cx="3152880" cy="229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4600" y="1638360"/>
            <a:ext cx="488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c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3280" y="5472000"/>
            <a:ext cx="282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Quando o modo de edição está ativado, o criador do curso pode adicionar atividades a partir de uma lista  com os módulos disponív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9600" y="2940120"/>
            <a:ext cx="4938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Os privilégios da criação de um curso são dados ao professo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Selecione um dos três formatos do curso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Clique em “Ativar modo edição” no curso va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Adicione recursos ou atividades ao curs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7160" y="2224080"/>
            <a:ext cx="5283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um design modular que  facilita o processo de adicionar as atividades que formam um curso é si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33400" y="6300720"/>
            <a:ext cx="966960" cy="1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19760" y="2268360"/>
            <a:ext cx="1884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44600" y="1817640"/>
            <a:ext cx="7116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4840" y="2371680"/>
            <a:ext cx="558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ribui tarefas on-line ou off-line;  Os alunos podem entregar as suas tarefas em arquivo de qualquer formato (ex; MS Office, PDF, a/v etc...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5375160"/>
            <a:ext cx="3390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ada módulo dá ajudas sobre as sua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560" y="4211640"/>
            <a:ext cx="3047760" cy="110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270080" y="4019400"/>
            <a:ext cx="40510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d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criam uma pergunta e um numero de opções para os alunos.  Utilize este módulo para fazer votações rápidas sobr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log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omunicação privada entre o professor e um aluno ou entre os alu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033" t="0" r="1033" b="750"/>
          <a:stretch/>
        </p:blipFill>
        <p:spPr>
          <a:xfrm>
            <a:off x="7105680" y="2340000"/>
            <a:ext cx="135396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79440" y="3419640"/>
            <a:ext cx="5308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 comunicação em tempo real com 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72160" y="5651640"/>
            <a:ext cx="2787480" cy="43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021280" y="6173640"/>
            <a:ext cx="397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Nas atividades você pode exigir que o aluno para entregar o projeto faça uplo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05636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814400"/>
            <a:ext cx="68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4840" y="2371680"/>
            <a:ext cx="6770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óruns permitem diálogos do grupo sobre um determinado tema.  A participação em fóruns pode ser uma parte integral do ensino, ajuda os alunos a esclarecer e desenvolver a sua compreensão d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84200" y="3735360"/>
            <a:ext cx="628020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390680" y="5999040"/>
            <a:ext cx="653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odem classificar os comentários inseridos no fórum, baseando-se nas escalas determinadas pelo criador do cu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6920" y="1625760"/>
            <a:ext cx="7288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5880" y="3600360"/>
            <a:ext cx="4343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e um glossário dos termos mais usados em um curso.  Existem várias opções de representação, incluindo em lista, enciclopédia, FAQ, dicionário e ou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os alunos refletirem e discutirem sobre um tema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ótul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iciona descrições com imagens na página principal do curso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6157800"/>
            <a:ext cx="301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termos do glossário aparecem em todos os recursos do curso.  O Moodle tem o seu próprio recurso de bus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9960" y="3900600"/>
            <a:ext cx="2590920" cy="218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3440" y="2448000"/>
            <a:ext cx="7290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çã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riar e gerenciar um conjunto de "páginas ligadas".  Cada página pode terminar com um pergunta. O aluno escolhe uma resposta, a resposta do aluno, faz com que ele progrida ou regrida ou permaneça no mesmo lugar.  No final existe uma qualif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oodle - Apresentação</dc:title>
</cp:coreProperties>
</file>